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9.wmf" ContentType="image/x-wmf"/>
  <Override PartName="/ppt/media/image5.jpeg" ContentType="image/jpeg"/>
  <Override PartName="/ppt/media/image13.png" ContentType="image/png"/>
  <Override PartName="/ppt/media/image11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2C6-5C6C-4038-880D-E62E63520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91C-E0CA-4722-BECD-6621D86F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606-B73E-4858-B809-7F010706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FBF-FF3E-42CF-B117-243F5B91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9C0-348A-4F41-A446-4E59113B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933-9EA8-4568-B85C-2815636D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E82-6CF1-4348-A551-575B0A3A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8D1-DCB9-4886-B1F9-7342E1D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EFA-F78C-4470-B40C-A4C824E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538-5676-4879-9E8E-2B4F3BF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B5E-F8D9-492F-9BFF-7C04E6E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F26-44FA-4975-B8B5-F7FA8A9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DA3-1BA9-48E6-8CB3-BC4C0FE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CDF-99C4-47F5-A9FA-6D7A857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FFF0-36A6-43EB-8F91-AB32B6CBE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4720" cy="34084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з - без цвета, вкуса и за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л кислорода весит 1,43 г, т.е. он тяжелее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хо растворяется в воде: в 100 л - 5 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ри 0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, 1 ат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-183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он превращается в голубоватую, очень подвижную жидкость, при дальнейшем охлаждении (до -219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) - в замерзающую темно-голубую массу, притягивающуюся магн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400" y="333360"/>
            <a:ext cx="81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ФИЗИЧЕСКИЕ СВОЙСТВА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3.JPG"/>
          <p:cNvPicPr/>
          <p:nvPr/>
        </p:nvPicPr>
        <p:blipFill>
          <a:blip r:embed="rId2"/>
          <a:stretch/>
        </p:blipFill>
        <p:spPr>
          <a:xfrm>
            <a:off x="5940360" y="4292640"/>
            <a:ext cx="2576520" cy="23479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96712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1340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 CYR"/>
              </a:rPr>
              <a:t>Физические св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 CYR"/>
              </a:rPr>
              <a:t>кислорода и о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-2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6551640" cy="5516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52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52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ХАРАКТЕРИСТИКА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 Химическая формула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 Относительная молекулярная масс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66640" y="2565360"/>
            <a:ext cx="226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 (О</a:t>
            </a:r>
            <a:r>
              <a:rPr b="1" i="1" lang="ru-RU" sz="3200" spc="-1" strike="noStrike" baseline="-25000">
                <a:solidFill>
                  <a:srgbClr val="ff3300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)=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1158000">
            <a:off x="7164360" y="549360"/>
            <a:ext cx="1562040" cy="1108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68720" y="338472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 Физические свойств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3284640"/>
            <a:ext cx="345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3357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ГАЗ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, Ц,  В,  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3500280"/>
            <a:ext cx="576360" cy="289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500280"/>
            <a:ext cx="576000" cy="289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3500280"/>
            <a:ext cx="576360" cy="289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407664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ТЯЖЕЛЕЕ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МАЛОРАСТВОРИМ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ЛУЧЕНИЕ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908000" y="1125360"/>
            <a:ext cx="115128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25360"/>
            <a:ext cx="990720" cy="9144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125360"/>
            <a:ext cx="0" cy="100836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060640"/>
            <a:ext cx="3025800" cy="792000"/>
          </a:xfrm>
          <a:prstGeom prst="ellipse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02200" y="2133720"/>
            <a:ext cx="3241800" cy="863640"/>
          </a:xfrm>
          <a:prstGeom prst="ellipse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2205000"/>
            <a:ext cx="2521080" cy="647640"/>
          </a:xfrm>
          <a:prstGeom prst="ellipse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6048000" y="3428640"/>
            <a:ext cx="3095640" cy="1584360"/>
          </a:xfrm>
          <a:prstGeom prst="cloudCallout">
            <a:avLst>
              <a:gd name="adj1" fmla="val -1847"/>
              <a:gd name="adj2" fmla="val 81759"/>
            </a:avLst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Из жидкого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-360" y="3284280"/>
            <a:ext cx="3095640" cy="1584360"/>
          </a:xfrm>
          <a:prstGeom prst="cloudCallout">
            <a:avLst>
              <a:gd name="adj1" fmla="val -2925"/>
              <a:gd name="adj2" fmla="val 77453"/>
            </a:avLst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57336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отосинтез в зеленых раст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834920" y="4652640"/>
            <a:ext cx="4932360" cy="1584360"/>
          </a:xfrm>
          <a:prstGeom prst="cloudCallout">
            <a:avLst>
              <a:gd name="adj1" fmla="val -1662"/>
              <a:gd name="adj2" fmla="val 146791"/>
            </a:avLst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ри разложении кислородсодержа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1158000">
            <a:off x="7164360" y="549360"/>
            <a:ext cx="1562040" cy="1108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ЛУЧЕНИЕ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ую роль выполняют зеленые раст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аквариумное растение, накрытое стеклянным колоколом. Почему в стеклянном колоколе собирается газ? Какой это г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химический процесс происходит в зеленом раст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условия для этого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468360" y="4076640"/>
          <a:ext cx="391320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076640"/>
                    <a:ext cx="3913200" cy="2276640"/>
                  </a:xfrm>
                  <a:prstGeom prst="rect">
                    <a:avLst/>
                  </a:prstGeom>
                  <a:ln w="255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0" name="Picture 15" descr="сканирование0006"/>
          <p:cNvPicPr/>
          <p:nvPr/>
        </p:nvPicPr>
        <p:blipFill>
          <a:blip r:embed="rId4"/>
          <a:stretch/>
        </p:blipFill>
        <p:spPr>
          <a:xfrm>
            <a:off x="1187280" y="1268280"/>
            <a:ext cx="2444760" cy="2492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ЛУЧЕНИЕ В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им способом можно разделить смесь кислорода и аз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каком свойстве газообразных кислорода и азота основано их разде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4720" y="1557360"/>
            <a:ext cx="4613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 кипения азота -1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 кипения кислорода -1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лаждение д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 18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дкий кислород  и газообразный 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6588000" y="4076640"/>
            <a:ext cx="287640" cy="43200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6588000" y="4941720"/>
            <a:ext cx="287640" cy="43200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45120" y="333360"/>
            <a:ext cx="64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ЛУЧЕНИЕ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341360"/>
            <a:ext cx="835344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ение перманганата калия при нагрев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KM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2050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3059280"/>
            <a:ext cx="196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349360"/>
            <a:ext cx="27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перманга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34936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манг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23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ксид    марганца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IV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234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028000" y="191592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IMG_3353"/>
          <p:cNvPicPr/>
          <p:nvPr/>
        </p:nvPicPr>
        <p:blipFill>
          <a:blip r:embed="rId2"/>
          <a:stretch/>
        </p:blipFill>
        <p:spPr>
          <a:xfrm>
            <a:off x="826920" y="3645000"/>
            <a:ext cx="3387960" cy="23526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126" name="Picture 4" descr="IMG_3355"/>
          <p:cNvPicPr/>
          <p:nvPr/>
        </p:nvPicPr>
        <p:blipFill>
          <a:blip r:embed="rId3"/>
          <a:stretch/>
        </p:blipFill>
        <p:spPr>
          <a:xfrm>
            <a:off x="5076720" y="3573360"/>
            <a:ext cx="3313080" cy="241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ение пероксида водорода в присутстви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тализато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оксида  марганца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ЛУЧЕНИЕ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2781360"/>
            <a:ext cx="6913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3141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59640" y="278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342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пероксид 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342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42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987640" y="4005360"/>
            <a:ext cx="3059280" cy="23191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еханизм действия катализ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Н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ленное нагре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Н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+О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+ B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агается при нагрева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Н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нагре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Н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+О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+ К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ыстр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) = АК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устойчивое веществ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)   АК + В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ыстр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) = АВ + К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5229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Катализаторы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щества, которые ускоряют химические реакции, но сами при этом не расход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ложение оксида рту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ЛУЧЕНИЕ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2133720"/>
            <a:ext cx="56894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     2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+ 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34936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732720" y="2060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270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оксид рт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5080" y="27082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1417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ложение хлората кал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860640"/>
            <a:ext cx="64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C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4149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380360" y="37893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4365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4365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хлор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4365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хлор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86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ложение 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5516640"/>
            <a:ext cx="669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5805360"/>
            <a:ext cx="50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84720" y="544464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609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1700280"/>
            <a:ext cx="55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римерно века два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крыт он был случа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ейчас знаком с ним стар и мл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 и для нас не та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Без газа этого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 жили б звери и на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Его назвать могли б и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едь, это 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71600" cy="68580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Image59-1"/>
          <p:cNvPicPr/>
          <p:nvPr/>
        </p:nvPicPr>
        <p:blipFill>
          <a:blip r:embed="rId2"/>
          <a:stretch/>
        </p:blipFill>
        <p:spPr>
          <a:xfrm>
            <a:off x="7164360" y="3068640"/>
            <a:ext cx="165564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0" y="1988640"/>
            <a:ext cx="8858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ытеснение воды                    вытеснение воздух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Image59-3"/>
          <p:cNvPicPr/>
          <p:nvPr/>
        </p:nvPicPr>
        <p:blipFill>
          <a:blip r:embed="rId3"/>
          <a:stretch/>
        </p:blipFill>
        <p:spPr>
          <a:xfrm>
            <a:off x="4859280" y="357336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Image59-2"/>
          <p:cNvPicPr/>
          <p:nvPr/>
        </p:nvPicPr>
        <p:blipFill>
          <a:blip r:embed="rId4"/>
          <a:stretch/>
        </p:blipFill>
        <p:spPr>
          <a:xfrm>
            <a:off x="468360" y="342900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35280" y="333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ПОСОБЫ СОБИРАНИЯ 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763280" y="836640"/>
            <a:ext cx="2087640" cy="1224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907920"/>
            <a:ext cx="1440000" cy="122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8000" y="2637000"/>
            <a:ext cx="0" cy="57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2637000"/>
            <a:ext cx="0" cy="57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 rot="20364600">
            <a:off x="250560" y="549360"/>
            <a:ext cx="1655640" cy="11746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РАСПОЗНАВАНИЕ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4140000" cy="31050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539640" y="4581360"/>
            <a:ext cx="838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Кислород поддерживает г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Тлеющая лучина в атмосфере кислорода ярко вспых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 rot="21073800">
            <a:off x="179280" y="764640"/>
            <a:ext cx="2016360" cy="1430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§ 18, 19, 20 (физические свойства кислород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. 1—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 1 (с. 59—6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651640" y="364500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слород - это веще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круг которого вращ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емная хи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. Берцел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42920" cy="151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1916280"/>
            <a:ext cx="762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333399"/>
                </a:solidFill>
                <a:latin typeface="Monotype Corsiva"/>
              </a:rPr>
              <a:t>Кислород: </a:t>
            </a:r>
            <a:br>
              <a:rPr sz="96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щая характеристика, получение и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физические свой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078280" cy="241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2143080" cy="23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2330280" cy="273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588000" y="3500280"/>
            <a:ext cx="2351160" cy="2737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ИСТОРИЯ ОТКР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3284640"/>
            <a:ext cx="314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770 год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Карл Вильгельм Ше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4581360"/>
            <a:ext cx="456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77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Джозе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Прист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5484960"/>
            <a:ext cx="24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77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Антуан Ло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Лавуаз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16280"/>
            <a:ext cx="228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750 год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Миха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ЛЛОТРОПИЯ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лотропия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ение, при котором одному химическому элементу может соответствовать несколько простых веще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, элемент кислород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ует два простых вещества 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ислород О</a:t>
            </a:r>
            <a:r>
              <a:rPr b="1" i="1" lang="ru-RU" sz="32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зон О</a:t>
            </a:r>
            <a:r>
              <a:rPr b="1" i="1" lang="ru-RU" sz="3200" spc="-1" strike="noStrike" baseline="-30000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2332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звание элемен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имический з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   Относительная атомная м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   Вален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   Распространенность элемента в   природе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71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л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характеристики химического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11280" y="1628640"/>
          <a:ext cx="7704000" cy="48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628640"/>
                    <a:ext cx="77040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213440" y="3500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3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РАСПРОСТРАНЕННОСТЬ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844640"/>
            <a:ext cx="8209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азвание элемента –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Химический знак –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Относительная атомная масса –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(О)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Валентность –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Распространенность элемента в   природе –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ХАРАКТЕРИСТИК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1158000">
            <a:off x="7164360" y="981000"/>
            <a:ext cx="1562040" cy="1108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лан характеристики простого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 Химическая 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 Относительная молекулярная м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 Физ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 Способы получения в лаборатории и в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 Хим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Нахождение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 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1:32:52Z</dcterms:created>
  <dc:creator>User</dc:creator>
  <dc:description/>
  <dc:language>en-US</dc:language>
  <cp:lastModifiedBy>User</cp:lastModifiedBy>
  <dcterms:modified xsi:type="dcterms:W3CDTF">2009-08-02T09:44:57Z</dcterms:modified>
  <cp:revision>18</cp:revision>
  <dc:subject/>
  <dc:title>Слайд 1</dc:title>
</cp:coreProperties>
</file>